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198-BA96-40CA-95C3-7EAB0ED8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14A-06DE-4395-874F-102EF488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998-999B-431C-B2FB-AE9751EB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7A8-DAEA-4C52-ABA1-631E1838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668-2E19-46EC-A1A2-E98B1320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4EDE-947B-4C88-8A33-819C03C5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E63-9A85-46CC-BB84-7ED36CAE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F94-744F-4C37-B585-61E3CD6F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4B1-3BAC-4453-8FAD-FBC5D06E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924-64ED-430B-8D5D-4C8DA196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84B9-B8F8-461F-91F3-A2164702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E33-6896-450B-925B-9ABCB99F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2430-6993-4892-8DEB-555DB2511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5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e three c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actorise each of the following fu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8354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x – 12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38354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69080" y="383544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0x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4411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6(3x – 2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24360" y="44118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–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5280" y="44118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+ 5x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49165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(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3)(x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1484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1 – COMMON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1989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2 – DIFFERENCE OF TWO SQU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1280" y="256536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3 – TWO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5280" y="49165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x + 2)(x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4000" y="1916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x – 1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9162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6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69080" y="191628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+ 12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600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492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6x – 7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2492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x – 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64000" y="2492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54936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E.g.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1 – COMM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2492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3a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436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5 + 3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48434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x – 15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48434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7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69080" y="484344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8m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16000" y="541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0" y="54198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4x – 3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24360" y="54198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13y – 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06920" y="54198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36306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Ex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1 – COMM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15280" y="54198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541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3m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2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77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7" dur="770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1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24000" y="1916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 – 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19162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9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69080" y="191628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10 +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6364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10 –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00720" y="2492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x – 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4800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x + 3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549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E.g.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2 – DIFFERENCE OF TWO SQU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02560" y="2492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a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–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16720" y="2971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a + 3)(a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48434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48434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81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9080" y="484344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6920" y="541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+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90560" y="541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–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98920" y="541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m – 9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348000" y="541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m + 9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36306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Ex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2 – DIFFERENCE OF TWO SQU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54198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– y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5280" y="59245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(x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y)(x + 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5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7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9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24000" y="1916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8x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74920" y="1916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3x – 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65800" y="191628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7a + 1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1600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7964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9892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–       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3856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   8)(x   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549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E.g.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3 – TWO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18200" y="249228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    5)(a   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0728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–       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50594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9x +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48000" y="50594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2x – 2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65800" y="505944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5a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5635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50920" y="5635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5635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–       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13080" y="5635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   4)(x   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5280" y="369252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Ex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3 – TWO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18200" y="563580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    3)(a   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07280" y="5635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+       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actorise each of the following fu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17002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x – 6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59280" y="17002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869080" y="1700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8x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" y="34765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59280" y="347652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4765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0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16000" y="227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2x – 3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90920" y="227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– 3)(x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443640" y="227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+ 5)(x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00000" y="397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450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x + 2)(x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51280" y="397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y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6)(y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2720" y="4005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y(2y +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actorise each of the following fu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4000" y="1700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59280" y="170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69080" y="1700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9x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4000" y="34765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59280" y="34765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3476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x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0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27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x – 7)(2x +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2276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5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–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59640" y="22510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- 8)(x -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0000" y="397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450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(x + y)(x –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06920" y="39798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3(y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32720" y="4005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xy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7 + 10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37080" y="27082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5(x – 10)(x +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08360" y="44845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3(y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5)(y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8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0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2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3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4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5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actorise each of the following fu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170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a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7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59280" y="170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1 – 25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69080" y="1700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12x -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" y="34765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+ 12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34765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.     2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2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19640" y="34765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6920" y="227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a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– 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659640" y="22510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– 3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00000" y="397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3y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+ 4y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06920" y="39798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a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+ 6a +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7080" y="2276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9 – 5h)(9 + 5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44845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a + 5)(a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4360" y="27082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a(x – 6)(x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59640" y="26845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(x – 5)(x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6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3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3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y and Factorise each of the follo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2560" y="1700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1x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1700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4x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55640" y="4292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1.     3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6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88000" y="4267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7y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03280" y="3500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x + 3)(x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826920" y="2349360"/>
            <a:ext cx="1008000" cy="863640"/>
            <a:chOff x="826920" y="2349360"/>
            <a:chExt cx="1008000" cy="863640"/>
          </a:xfrm>
        </p:grpSpPr>
        <p:sp>
          <p:nvSpPr>
            <p:cNvPr id="344" name=""/>
            <p:cNvSpPr/>
            <p:nvPr/>
          </p:nvSpPr>
          <p:spPr>
            <a:xfrm>
              <a:off x="133020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692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900000" y="2422440"/>
            <a:ext cx="792000" cy="720720"/>
            <a:chOff x="900000" y="2422440"/>
            <a:chExt cx="792000" cy="720720"/>
          </a:xfrm>
        </p:grpSpPr>
        <p:sp>
          <p:nvSpPr>
            <p:cNvPr id="347" name=""/>
            <p:cNvSpPr/>
            <p:nvPr/>
          </p:nvSpPr>
          <p:spPr>
            <a:xfrm>
              <a:off x="900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00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332000" y="2422440"/>
            <a:ext cx="792000" cy="720720"/>
            <a:chOff x="1332000" y="2422440"/>
            <a:chExt cx="792000" cy="720720"/>
          </a:xfrm>
        </p:grpSpPr>
        <p:sp>
          <p:nvSpPr>
            <p:cNvPr id="350" name=""/>
            <p:cNvSpPr/>
            <p:nvPr/>
          </p:nvSpPr>
          <p:spPr>
            <a:xfrm>
              <a:off x="1332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32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050920" y="2349360"/>
            <a:ext cx="1008000" cy="863640"/>
            <a:chOff x="2050920" y="2349360"/>
            <a:chExt cx="1008000" cy="863640"/>
          </a:xfrm>
        </p:grpSpPr>
        <p:sp>
          <p:nvSpPr>
            <p:cNvPr id="353" name=""/>
            <p:cNvSpPr/>
            <p:nvPr/>
          </p:nvSpPr>
          <p:spPr>
            <a:xfrm>
              <a:off x="255420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5092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124000" y="2422440"/>
            <a:ext cx="792000" cy="720720"/>
            <a:chOff x="2124000" y="2422440"/>
            <a:chExt cx="792000" cy="720720"/>
          </a:xfrm>
        </p:grpSpPr>
        <p:sp>
          <p:nvSpPr>
            <p:cNvPr id="356" name=""/>
            <p:cNvSpPr/>
            <p:nvPr/>
          </p:nvSpPr>
          <p:spPr>
            <a:xfrm>
              <a:off x="2124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24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556000" y="2422440"/>
            <a:ext cx="792000" cy="720720"/>
            <a:chOff x="2556000" y="2422440"/>
            <a:chExt cx="792000" cy="720720"/>
          </a:xfrm>
        </p:grpSpPr>
        <p:sp>
          <p:nvSpPr>
            <p:cNvPr id="359" name=""/>
            <p:cNvSpPr/>
            <p:nvPr/>
          </p:nvSpPr>
          <p:spPr>
            <a:xfrm>
              <a:off x="2556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56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203640" y="2349360"/>
            <a:ext cx="1008000" cy="863640"/>
            <a:chOff x="3203640" y="2349360"/>
            <a:chExt cx="1008000" cy="863640"/>
          </a:xfrm>
        </p:grpSpPr>
        <p:sp>
          <p:nvSpPr>
            <p:cNvPr id="362" name=""/>
            <p:cNvSpPr/>
            <p:nvPr/>
          </p:nvSpPr>
          <p:spPr>
            <a:xfrm>
              <a:off x="370692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0364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276720" y="2422440"/>
            <a:ext cx="792000" cy="720720"/>
            <a:chOff x="3276720" y="2422440"/>
            <a:chExt cx="792000" cy="720720"/>
          </a:xfrm>
        </p:grpSpPr>
        <p:sp>
          <p:nvSpPr>
            <p:cNvPr id="365" name=""/>
            <p:cNvSpPr/>
            <p:nvPr/>
          </p:nvSpPr>
          <p:spPr>
            <a:xfrm>
              <a:off x="327672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7672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635280" y="2422440"/>
            <a:ext cx="792000" cy="720720"/>
            <a:chOff x="3635280" y="2422440"/>
            <a:chExt cx="792000" cy="720720"/>
          </a:xfrm>
        </p:grpSpPr>
        <p:sp>
          <p:nvSpPr>
            <p:cNvPr id="368" name=""/>
            <p:cNvSpPr/>
            <p:nvPr/>
          </p:nvSpPr>
          <p:spPr>
            <a:xfrm>
              <a:off x="363528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3528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6012000" y="35002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3x + 2)(x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435640" y="2349360"/>
            <a:ext cx="1008000" cy="863640"/>
            <a:chOff x="5435640" y="2349360"/>
            <a:chExt cx="1008000" cy="863640"/>
          </a:xfrm>
        </p:grpSpPr>
        <p:sp>
          <p:nvSpPr>
            <p:cNvPr id="372" name=""/>
            <p:cNvSpPr/>
            <p:nvPr/>
          </p:nvSpPr>
          <p:spPr>
            <a:xfrm>
              <a:off x="593892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3564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508720" y="2422440"/>
            <a:ext cx="792000" cy="720720"/>
            <a:chOff x="5508720" y="2422440"/>
            <a:chExt cx="792000" cy="720720"/>
          </a:xfrm>
        </p:grpSpPr>
        <p:sp>
          <p:nvSpPr>
            <p:cNvPr id="375" name=""/>
            <p:cNvSpPr/>
            <p:nvPr/>
          </p:nvSpPr>
          <p:spPr>
            <a:xfrm>
              <a:off x="550872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0872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940360" y="2422440"/>
            <a:ext cx="792000" cy="720720"/>
            <a:chOff x="5940360" y="2422440"/>
            <a:chExt cx="792000" cy="720720"/>
          </a:xfrm>
        </p:grpSpPr>
        <p:sp>
          <p:nvSpPr>
            <p:cNvPr id="378" name=""/>
            <p:cNvSpPr/>
            <p:nvPr/>
          </p:nvSpPr>
          <p:spPr>
            <a:xfrm>
              <a:off x="594036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4036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659640" y="2349360"/>
            <a:ext cx="1008000" cy="863640"/>
            <a:chOff x="6659640" y="2349360"/>
            <a:chExt cx="1008000" cy="863640"/>
          </a:xfrm>
        </p:grpSpPr>
        <p:sp>
          <p:nvSpPr>
            <p:cNvPr id="381" name=""/>
            <p:cNvSpPr/>
            <p:nvPr/>
          </p:nvSpPr>
          <p:spPr>
            <a:xfrm>
              <a:off x="716292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5964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6732720" y="2422440"/>
            <a:ext cx="792000" cy="720720"/>
            <a:chOff x="6732720" y="2422440"/>
            <a:chExt cx="792000" cy="720720"/>
          </a:xfrm>
        </p:grpSpPr>
        <p:sp>
          <p:nvSpPr>
            <p:cNvPr id="384" name=""/>
            <p:cNvSpPr/>
            <p:nvPr/>
          </p:nvSpPr>
          <p:spPr>
            <a:xfrm>
              <a:off x="673272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3272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164360" y="2422440"/>
            <a:ext cx="792000" cy="720720"/>
            <a:chOff x="7164360" y="2422440"/>
            <a:chExt cx="792000" cy="720720"/>
          </a:xfrm>
        </p:grpSpPr>
        <p:sp>
          <p:nvSpPr>
            <p:cNvPr id="387" name=""/>
            <p:cNvSpPr/>
            <p:nvPr/>
          </p:nvSpPr>
          <p:spPr>
            <a:xfrm>
              <a:off x="716436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6436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812000" y="2349360"/>
            <a:ext cx="1008000" cy="863640"/>
            <a:chOff x="7812000" y="2349360"/>
            <a:chExt cx="1008000" cy="863640"/>
          </a:xfrm>
        </p:grpSpPr>
        <p:sp>
          <p:nvSpPr>
            <p:cNvPr id="390" name=""/>
            <p:cNvSpPr/>
            <p:nvPr/>
          </p:nvSpPr>
          <p:spPr>
            <a:xfrm>
              <a:off x="831528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1200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885080" y="2422440"/>
            <a:ext cx="792000" cy="720720"/>
            <a:chOff x="7885080" y="2422440"/>
            <a:chExt cx="792000" cy="720720"/>
          </a:xfrm>
        </p:grpSpPr>
        <p:sp>
          <p:nvSpPr>
            <p:cNvPr id="393" name=""/>
            <p:cNvSpPr/>
            <p:nvPr/>
          </p:nvSpPr>
          <p:spPr>
            <a:xfrm>
              <a:off x="788508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8508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8244000" y="2422440"/>
            <a:ext cx="792000" cy="720720"/>
            <a:chOff x="8244000" y="2422440"/>
            <a:chExt cx="792000" cy="720720"/>
          </a:xfrm>
        </p:grpSpPr>
        <p:sp>
          <p:nvSpPr>
            <p:cNvPr id="396" name=""/>
            <p:cNvSpPr/>
            <p:nvPr/>
          </p:nvSpPr>
          <p:spPr>
            <a:xfrm>
              <a:off x="8244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44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1403280" y="6211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3a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2)(a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898560" y="5060880"/>
            <a:ext cx="1008000" cy="863640"/>
            <a:chOff x="898560" y="5060880"/>
            <a:chExt cx="1008000" cy="863640"/>
          </a:xfrm>
        </p:grpSpPr>
        <p:sp>
          <p:nvSpPr>
            <p:cNvPr id="400" name=""/>
            <p:cNvSpPr/>
            <p:nvPr/>
          </p:nvSpPr>
          <p:spPr>
            <a:xfrm>
              <a:off x="1401840" y="5060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98560" y="5492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71640" y="5133960"/>
            <a:ext cx="792000" cy="720720"/>
            <a:chOff x="971640" y="5133960"/>
            <a:chExt cx="792000" cy="720720"/>
          </a:xfrm>
        </p:grpSpPr>
        <p:sp>
          <p:nvSpPr>
            <p:cNvPr id="403" name=""/>
            <p:cNvSpPr/>
            <p:nvPr/>
          </p:nvSpPr>
          <p:spPr>
            <a:xfrm>
              <a:off x="97164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7164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403280" y="5133960"/>
            <a:ext cx="792000" cy="720720"/>
            <a:chOff x="1403280" y="5133960"/>
            <a:chExt cx="792000" cy="720720"/>
          </a:xfrm>
        </p:grpSpPr>
        <p:sp>
          <p:nvSpPr>
            <p:cNvPr id="406" name=""/>
            <p:cNvSpPr/>
            <p:nvPr/>
          </p:nvSpPr>
          <p:spPr>
            <a:xfrm>
              <a:off x="140328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328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411280" y="5060880"/>
            <a:ext cx="1008000" cy="863640"/>
            <a:chOff x="2411280" y="5060880"/>
            <a:chExt cx="1008000" cy="863640"/>
          </a:xfrm>
        </p:grpSpPr>
        <p:sp>
          <p:nvSpPr>
            <p:cNvPr id="409" name=""/>
            <p:cNvSpPr/>
            <p:nvPr/>
          </p:nvSpPr>
          <p:spPr>
            <a:xfrm>
              <a:off x="2914560" y="5060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11280" y="5492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484360" y="5133960"/>
            <a:ext cx="792000" cy="720720"/>
            <a:chOff x="2484360" y="5133960"/>
            <a:chExt cx="792000" cy="720720"/>
          </a:xfrm>
        </p:grpSpPr>
        <p:sp>
          <p:nvSpPr>
            <p:cNvPr id="412" name=""/>
            <p:cNvSpPr/>
            <p:nvPr/>
          </p:nvSpPr>
          <p:spPr>
            <a:xfrm>
              <a:off x="248436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8436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916360" y="5133960"/>
            <a:ext cx="792000" cy="720720"/>
            <a:chOff x="2916360" y="5133960"/>
            <a:chExt cx="792000" cy="720720"/>
          </a:xfrm>
        </p:grpSpPr>
        <p:sp>
          <p:nvSpPr>
            <p:cNvPr id="415" name=""/>
            <p:cNvSpPr/>
            <p:nvPr/>
          </p:nvSpPr>
          <p:spPr>
            <a:xfrm>
              <a:off x="291636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1636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5364000" y="616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y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1)(y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788000" y="5013360"/>
            <a:ext cx="1008000" cy="863640"/>
            <a:chOff x="4788000" y="5013360"/>
            <a:chExt cx="1008000" cy="863640"/>
          </a:xfrm>
        </p:grpSpPr>
        <p:sp>
          <p:nvSpPr>
            <p:cNvPr id="419" name=""/>
            <p:cNvSpPr/>
            <p:nvPr/>
          </p:nvSpPr>
          <p:spPr>
            <a:xfrm>
              <a:off x="5291280" y="501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88000" y="54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861080" y="5086440"/>
            <a:ext cx="792000" cy="720720"/>
            <a:chOff x="4861080" y="5086440"/>
            <a:chExt cx="792000" cy="720720"/>
          </a:xfrm>
        </p:grpSpPr>
        <p:sp>
          <p:nvSpPr>
            <p:cNvPr id="422" name=""/>
            <p:cNvSpPr/>
            <p:nvPr/>
          </p:nvSpPr>
          <p:spPr>
            <a:xfrm>
              <a:off x="486108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108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292720" y="5086440"/>
            <a:ext cx="792000" cy="720720"/>
            <a:chOff x="5292720" y="5086440"/>
            <a:chExt cx="792000" cy="720720"/>
          </a:xfrm>
        </p:grpSpPr>
        <p:sp>
          <p:nvSpPr>
            <p:cNvPr id="425" name=""/>
            <p:cNvSpPr/>
            <p:nvPr/>
          </p:nvSpPr>
          <p:spPr>
            <a:xfrm>
              <a:off x="529272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9272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012000" y="5013360"/>
            <a:ext cx="1008000" cy="863640"/>
            <a:chOff x="6012000" y="5013360"/>
            <a:chExt cx="1008000" cy="863640"/>
          </a:xfrm>
        </p:grpSpPr>
        <p:sp>
          <p:nvSpPr>
            <p:cNvPr id="428" name=""/>
            <p:cNvSpPr/>
            <p:nvPr/>
          </p:nvSpPr>
          <p:spPr>
            <a:xfrm>
              <a:off x="6515280" y="501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12000" y="54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84720" y="5086440"/>
            <a:ext cx="792000" cy="720720"/>
            <a:chOff x="6084720" y="5086440"/>
            <a:chExt cx="792000" cy="720720"/>
          </a:xfrm>
        </p:grpSpPr>
        <p:sp>
          <p:nvSpPr>
            <p:cNvPr id="431" name=""/>
            <p:cNvSpPr/>
            <p:nvPr/>
          </p:nvSpPr>
          <p:spPr>
            <a:xfrm>
              <a:off x="608472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8472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516720" y="5086440"/>
            <a:ext cx="792000" cy="720720"/>
            <a:chOff x="6516720" y="5086440"/>
            <a:chExt cx="792000" cy="720720"/>
          </a:xfrm>
        </p:grpSpPr>
        <p:sp>
          <p:nvSpPr>
            <p:cNvPr id="434" name=""/>
            <p:cNvSpPr/>
            <p:nvPr/>
          </p:nvSpPr>
          <p:spPr>
            <a:xfrm>
              <a:off x="651672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1672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7164360" y="5013360"/>
            <a:ext cx="1008000" cy="863640"/>
            <a:chOff x="7164360" y="5013360"/>
            <a:chExt cx="1008000" cy="863640"/>
          </a:xfrm>
        </p:grpSpPr>
        <p:sp>
          <p:nvSpPr>
            <p:cNvPr id="437" name=""/>
            <p:cNvSpPr/>
            <p:nvPr/>
          </p:nvSpPr>
          <p:spPr>
            <a:xfrm>
              <a:off x="7667640" y="501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64360" y="54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237440" y="5086440"/>
            <a:ext cx="792000" cy="720720"/>
            <a:chOff x="7237440" y="5086440"/>
            <a:chExt cx="792000" cy="720720"/>
          </a:xfrm>
        </p:grpSpPr>
        <p:sp>
          <p:nvSpPr>
            <p:cNvPr id="440" name=""/>
            <p:cNvSpPr/>
            <p:nvPr/>
          </p:nvSpPr>
          <p:spPr>
            <a:xfrm>
              <a:off x="723744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23744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7596360" y="5086440"/>
            <a:ext cx="792000" cy="720720"/>
            <a:chOff x="7596360" y="5086440"/>
            <a:chExt cx="792000" cy="720720"/>
          </a:xfrm>
        </p:grpSpPr>
        <p:sp>
          <p:nvSpPr>
            <p:cNvPr id="443" name=""/>
            <p:cNvSpPr/>
            <p:nvPr/>
          </p:nvSpPr>
          <p:spPr>
            <a:xfrm>
              <a:off x="759636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9636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y and Factorise each of the follo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82560" y="1700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3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788000" y="1700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5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5640" y="4292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.     4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6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88000" y="4267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7y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03280" y="3500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3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2)(x +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826920" y="2349360"/>
            <a:ext cx="1008000" cy="863640"/>
            <a:chOff x="826920" y="2349360"/>
            <a:chExt cx="1008000" cy="863640"/>
          </a:xfrm>
        </p:grpSpPr>
        <p:sp>
          <p:nvSpPr>
            <p:cNvPr id="452" name=""/>
            <p:cNvSpPr/>
            <p:nvPr/>
          </p:nvSpPr>
          <p:spPr>
            <a:xfrm>
              <a:off x="133020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92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900000" y="2422440"/>
            <a:ext cx="792000" cy="720720"/>
            <a:chOff x="900000" y="2422440"/>
            <a:chExt cx="792000" cy="720720"/>
          </a:xfrm>
        </p:grpSpPr>
        <p:sp>
          <p:nvSpPr>
            <p:cNvPr id="455" name=""/>
            <p:cNvSpPr/>
            <p:nvPr/>
          </p:nvSpPr>
          <p:spPr>
            <a:xfrm>
              <a:off x="900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00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332000" y="2422440"/>
            <a:ext cx="792000" cy="720720"/>
            <a:chOff x="1332000" y="2422440"/>
            <a:chExt cx="792000" cy="720720"/>
          </a:xfrm>
        </p:grpSpPr>
        <p:sp>
          <p:nvSpPr>
            <p:cNvPr id="458" name=""/>
            <p:cNvSpPr/>
            <p:nvPr/>
          </p:nvSpPr>
          <p:spPr>
            <a:xfrm>
              <a:off x="1332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32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050920" y="2349360"/>
            <a:ext cx="1008000" cy="863640"/>
            <a:chOff x="2050920" y="2349360"/>
            <a:chExt cx="1008000" cy="863640"/>
          </a:xfrm>
        </p:grpSpPr>
        <p:sp>
          <p:nvSpPr>
            <p:cNvPr id="461" name=""/>
            <p:cNvSpPr/>
            <p:nvPr/>
          </p:nvSpPr>
          <p:spPr>
            <a:xfrm>
              <a:off x="255420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5092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124000" y="2422440"/>
            <a:ext cx="792000" cy="720720"/>
            <a:chOff x="2124000" y="2422440"/>
            <a:chExt cx="792000" cy="720720"/>
          </a:xfrm>
        </p:grpSpPr>
        <p:sp>
          <p:nvSpPr>
            <p:cNvPr id="464" name=""/>
            <p:cNvSpPr/>
            <p:nvPr/>
          </p:nvSpPr>
          <p:spPr>
            <a:xfrm>
              <a:off x="2124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24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556000" y="2422440"/>
            <a:ext cx="792000" cy="720720"/>
            <a:chOff x="2556000" y="2422440"/>
            <a:chExt cx="792000" cy="720720"/>
          </a:xfrm>
        </p:grpSpPr>
        <p:sp>
          <p:nvSpPr>
            <p:cNvPr id="467" name=""/>
            <p:cNvSpPr/>
            <p:nvPr/>
          </p:nvSpPr>
          <p:spPr>
            <a:xfrm>
              <a:off x="2556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56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203640" y="2349360"/>
            <a:ext cx="1008000" cy="863640"/>
            <a:chOff x="3203640" y="2349360"/>
            <a:chExt cx="1008000" cy="863640"/>
          </a:xfrm>
        </p:grpSpPr>
        <p:sp>
          <p:nvSpPr>
            <p:cNvPr id="470" name=""/>
            <p:cNvSpPr/>
            <p:nvPr/>
          </p:nvSpPr>
          <p:spPr>
            <a:xfrm>
              <a:off x="370692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0364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276720" y="2422440"/>
            <a:ext cx="792000" cy="720720"/>
            <a:chOff x="3276720" y="2422440"/>
            <a:chExt cx="792000" cy="720720"/>
          </a:xfrm>
        </p:grpSpPr>
        <p:sp>
          <p:nvSpPr>
            <p:cNvPr id="473" name=""/>
            <p:cNvSpPr/>
            <p:nvPr/>
          </p:nvSpPr>
          <p:spPr>
            <a:xfrm>
              <a:off x="327672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7672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635280" y="2422440"/>
            <a:ext cx="792000" cy="720720"/>
            <a:chOff x="3635280" y="2422440"/>
            <a:chExt cx="792000" cy="720720"/>
          </a:xfrm>
        </p:grpSpPr>
        <p:sp>
          <p:nvSpPr>
            <p:cNvPr id="476" name=""/>
            <p:cNvSpPr/>
            <p:nvPr/>
          </p:nvSpPr>
          <p:spPr>
            <a:xfrm>
              <a:off x="363528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3528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5796000" y="3500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x + 1)(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435640" y="2349360"/>
            <a:ext cx="1008000" cy="863640"/>
            <a:chOff x="5435640" y="2349360"/>
            <a:chExt cx="1008000" cy="863640"/>
          </a:xfrm>
        </p:grpSpPr>
        <p:sp>
          <p:nvSpPr>
            <p:cNvPr id="480" name=""/>
            <p:cNvSpPr/>
            <p:nvPr/>
          </p:nvSpPr>
          <p:spPr>
            <a:xfrm>
              <a:off x="593892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43564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508720" y="2422440"/>
            <a:ext cx="792000" cy="720720"/>
            <a:chOff x="5508720" y="2422440"/>
            <a:chExt cx="792000" cy="720720"/>
          </a:xfrm>
        </p:grpSpPr>
        <p:sp>
          <p:nvSpPr>
            <p:cNvPr id="483" name=""/>
            <p:cNvSpPr/>
            <p:nvPr/>
          </p:nvSpPr>
          <p:spPr>
            <a:xfrm>
              <a:off x="550872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0872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940360" y="2422440"/>
            <a:ext cx="792000" cy="720720"/>
            <a:chOff x="5940360" y="2422440"/>
            <a:chExt cx="792000" cy="720720"/>
          </a:xfrm>
        </p:grpSpPr>
        <p:sp>
          <p:nvSpPr>
            <p:cNvPr id="486" name=""/>
            <p:cNvSpPr/>
            <p:nvPr/>
          </p:nvSpPr>
          <p:spPr>
            <a:xfrm>
              <a:off x="594036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4036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659640" y="2349360"/>
            <a:ext cx="1008000" cy="863640"/>
            <a:chOff x="6659640" y="2349360"/>
            <a:chExt cx="1008000" cy="863640"/>
          </a:xfrm>
        </p:grpSpPr>
        <p:sp>
          <p:nvSpPr>
            <p:cNvPr id="489" name=""/>
            <p:cNvSpPr/>
            <p:nvPr/>
          </p:nvSpPr>
          <p:spPr>
            <a:xfrm>
              <a:off x="716292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5964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732720" y="2422440"/>
            <a:ext cx="792000" cy="720720"/>
            <a:chOff x="6732720" y="2422440"/>
            <a:chExt cx="792000" cy="720720"/>
          </a:xfrm>
        </p:grpSpPr>
        <p:sp>
          <p:nvSpPr>
            <p:cNvPr id="492" name=""/>
            <p:cNvSpPr/>
            <p:nvPr/>
          </p:nvSpPr>
          <p:spPr>
            <a:xfrm>
              <a:off x="673272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3272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164360" y="2422440"/>
            <a:ext cx="792000" cy="720720"/>
            <a:chOff x="7164360" y="2422440"/>
            <a:chExt cx="792000" cy="720720"/>
          </a:xfrm>
        </p:grpSpPr>
        <p:sp>
          <p:nvSpPr>
            <p:cNvPr id="495" name=""/>
            <p:cNvSpPr/>
            <p:nvPr/>
          </p:nvSpPr>
          <p:spPr>
            <a:xfrm>
              <a:off x="716436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6436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258920" y="6211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a + 5)(2a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39640" y="5060880"/>
            <a:ext cx="1008000" cy="863640"/>
            <a:chOff x="539640" y="5060880"/>
            <a:chExt cx="1008000" cy="863640"/>
          </a:xfrm>
        </p:grpSpPr>
        <p:sp>
          <p:nvSpPr>
            <p:cNvPr id="499" name=""/>
            <p:cNvSpPr/>
            <p:nvPr/>
          </p:nvSpPr>
          <p:spPr>
            <a:xfrm>
              <a:off x="1042920" y="5060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9640" y="5492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612720" y="5133960"/>
            <a:ext cx="792000" cy="720720"/>
            <a:chOff x="612720" y="5133960"/>
            <a:chExt cx="792000" cy="720720"/>
          </a:xfrm>
        </p:grpSpPr>
        <p:sp>
          <p:nvSpPr>
            <p:cNvPr id="502" name=""/>
            <p:cNvSpPr/>
            <p:nvPr/>
          </p:nvSpPr>
          <p:spPr>
            <a:xfrm>
              <a:off x="61272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272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044720" y="5133960"/>
            <a:ext cx="792000" cy="720720"/>
            <a:chOff x="1044720" y="5133960"/>
            <a:chExt cx="792000" cy="720720"/>
          </a:xfrm>
        </p:grpSpPr>
        <p:sp>
          <p:nvSpPr>
            <p:cNvPr id="505" name=""/>
            <p:cNvSpPr/>
            <p:nvPr/>
          </p:nvSpPr>
          <p:spPr>
            <a:xfrm>
              <a:off x="104472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4472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979640" y="5060880"/>
            <a:ext cx="1008000" cy="863640"/>
            <a:chOff x="1979640" y="5060880"/>
            <a:chExt cx="1008000" cy="863640"/>
          </a:xfrm>
        </p:grpSpPr>
        <p:sp>
          <p:nvSpPr>
            <p:cNvPr id="508" name=""/>
            <p:cNvSpPr/>
            <p:nvPr/>
          </p:nvSpPr>
          <p:spPr>
            <a:xfrm>
              <a:off x="2482920" y="5060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79640" y="5492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052720" y="5133960"/>
            <a:ext cx="792000" cy="720720"/>
            <a:chOff x="2052720" y="5133960"/>
            <a:chExt cx="792000" cy="720720"/>
          </a:xfrm>
        </p:grpSpPr>
        <p:sp>
          <p:nvSpPr>
            <p:cNvPr id="511" name=""/>
            <p:cNvSpPr/>
            <p:nvPr/>
          </p:nvSpPr>
          <p:spPr>
            <a:xfrm>
              <a:off x="205272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5272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484360" y="5133960"/>
            <a:ext cx="792000" cy="720720"/>
            <a:chOff x="2484360" y="5133960"/>
            <a:chExt cx="792000" cy="720720"/>
          </a:xfrm>
        </p:grpSpPr>
        <p:sp>
          <p:nvSpPr>
            <p:cNvPr id="514" name=""/>
            <p:cNvSpPr/>
            <p:nvPr/>
          </p:nvSpPr>
          <p:spPr>
            <a:xfrm>
              <a:off x="248436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48436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5364000" y="616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6y + 5)(y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788000" y="5013360"/>
            <a:ext cx="1008000" cy="863640"/>
            <a:chOff x="4788000" y="5013360"/>
            <a:chExt cx="1008000" cy="863640"/>
          </a:xfrm>
        </p:grpSpPr>
        <p:sp>
          <p:nvSpPr>
            <p:cNvPr id="518" name=""/>
            <p:cNvSpPr/>
            <p:nvPr/>
          </p:nvSpPr>
          <p:spPr>
            <a:xfrm>
              <a:off x="5291280" y="501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88000" y="54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861080" y="5086440"/>
            <a:ext cx="792000" cy="720720"/>
            <a:chOff x="4861080" y="5086440"/>
            <a:chExt cx="792000" cy="720720"/>
          </a:xfrm>
        </p:grpSpPr>
        <p:sp>
          <p:nvSpPr>
            <p:cNvPr id="521" name=""/>
            <p:cNvSpPr/>
            <p:nvPr/>
          </p:nvSpPr>
          <p:spPr>
            <a:xfrm>
              <a:off x="486108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6108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5292720" y="5086440"/>
            <a:ext cx="792000" cy="720720"/>
            <a:chOff x="5292720" y="5086440"/>
            <a:chExt cx="792000" cy="720720"/>
          </a:xfrm>
        </p:grpSpPr>
        <p:sp>
          <p:nvSpPr>
            <p:cNvPr id="524" name=""/>
            <p:cNvSpPr/>
            <p:nvPr/>
          </p:nvSpPr>
          <p:spPr>
            <a:xfrm>
              <a:off x="529272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9272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6012000" y="5013360"/>
            <a:ext cx="1008000" cy="863640"/>
            <a:chOff x="6012000" y="5013360"/>
            <a:chExt cx="1008000" cy="863640"/>
          </a:xfrm>
        </p:grpSpPr>
        <p:sp>
          <p:nvSpPr>
            <p:cNvPr id="527" name=""/>
            <p:cNvSpPr/>
            <p:nvPr/>
          </p:nvSpPr>
          <p:spPr>
            <a:xfrm>
              <a:off x="6515280" y="501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12000" y="54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084720" y="5086440"/>
            <a:ext cx="792000" cy="720720"/>
            <a:chOff x="6084720" y="5086440"/>
            <a:chExt cx="792000" cy="720720"/>
          </a:xfrm>
        </p:grpSpPr>
        <p:sp>
          <p:nvSpPr>
            <p:cNvPr id="530" name=""/>
            <p:cNvSpPr/>
            <p:nvPr/>
          </p:nvSpPr>
          <p:spPr>
            <a:xfrm>
              <a:off x="608472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8472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516720" y="5086440"/>
            <a:ext cx="792000" cy="720720"/>
            <a:chOff x="6516720" y="5086440"/>
            <a:chExt cx="792000" cy="720720"/>
          </a:xfrm>
        </p:grpSpPr>
        <p:sp>
          <p:nvSpPr>
            <p:cNvPr id="533" name=""/>
            <p:cNvSpPr/>
            <p:nvPr/>
          </p:nvSpPr>
          <p:spPr>
            <a:xfrm>
              <a:off x="651672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1672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7164360" y="5013360"/>
            <a:ext cx="1008000" cy="863640"/>
            <a:chOff x="7164360" y="5013360"/>
            <a:chExt cx="1008000" cy="863640"/>
          </a:xfrm>
        </p:grpSpPr>
        <p:sp>
          <p:nvSpPr>
            <p:cNvPr id="536" name=""/>
            <p:cNvSpPr/>
            <p:nvPr/>
          </p:nvSpPr>
          <p:spPr>
            <a:xfrm>
              <a:off x="7667640" y="501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64360" y="54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7237440" y="5086440"/>
            <a:ext cx="792000" cy="720720"/>
            <a:chOff x="7237440" y="5086440"/>
            <a:chExt cx="792000" cy="720720"/>
          </a:xfrm>
        </p:grpSpPr>
        <p:sp>
          <p:nvSpPr>
            <p:cNvPr id="539" name=""/>
            <p:cNvSpPr/>
            <p:nvPr/>
          </p:nvSpPr>
          <p:spPr>
            <a:xfrm>
              <a:off x="723744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3744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7596360" y="5086440"/>
            <a:ext cx="792000" cy="720720"/>
            <a:chOff x="7596360" y="5086440"/>
            <a:chExt cx="792000" cy="720720"/>
          </a:xfrm>
        </p:grpSpPr>
        <p:sp>
          <p:nvSpPr>
            <p:cNvPr id="542" name=""/>
            <p:cNvSpPr/>
            <p:nvPr/>
          </p:nvSpPr>
          <p:spPr>
            <a:xfrm>
              <a:off x="759636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9636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346560" y="5086440"/>
            <a:ext cx="1008000" cy="863640"/>
            <a:chOff x="3346560" y="5086440"/>
            <a:chExt cx="1008000" cy="863640"/>
          </a:xfrm>
        </p:grpSpPr>
        <p:sp>
          <p:nvSpPr>
            <p:cNvPr id="545" name=""/>
            <p:cNvSpPr/>
            <p:nvPr/>
          </p:nvSpPr>
          <p:spPr>
            <a:xfrm>
              <a:off x="3849840" y="50864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46560" y="55180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419640" y="5159520"/>
            <a:ext cx="792000" cy="720720"/>
            <a:chOff x="3419640" y="5159520"/>
            <a:chExt cx="792000" cy="720720"/>
          </a:xfrm>
        </p:grpSpPr>
        <p:sp>
          <p:nvSpPr>
            <p:cNvPr id="548" name=""/>
            <p:cNvSpPr/>
            <p:nvPr/>
          </p:nvSpPr>
          <p:spPr>
            <a:xfrm>
              <a:off x="3419640" y="51595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19640" y="5511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851280" y="5159520"/>
            <a:ext cx="792000" cy="720720"/>
            <a:chOff x="3851280" y="5159520"/>
            <a:chExt cx="792000" cy="720720"/>
          </a:xfrm>
        </p:grpSpPr>
        <p:sp>
          <p:nvSpPr>
            <p:cNvPr id="551" name=""/>
            <p:cNvSpPr/>
            <p:nvPr/>
          </p:nvSpPr>
          <p:spPr>
            <a:xfrm>
              <a:off x="3851280" y="51595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51280" y="5511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0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1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2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6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18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5" dur="77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6" dur="770" fill="hold"/>
                                        <p:tgtEl>
                                          <p:spTgt spid="4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8" dur="77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0" dur="77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4" dur="15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5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72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agoras and Tr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-angled Tri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y and Factorise each of the follo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2560" y="1700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788000" y="1700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3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55640" y="4292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.     6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7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788000" y="4267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0y +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71640" y="3548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3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4)(2x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826920" y="2349360"/>
            <a:ext cx="1008000" cy="863640"/>
            <a:chOff x="826920" y="2349360"/>
            <a:chExt cx="1008000" cy="863640"/>
          </a:xfrm>
        </p:grpSpPr>
        <p:sp>
          <p:nvSpPr>
            <p:cNvPr id="560" name=""/>
            <p:cNvSpPr/>
            <p:nvPr/>
          </p:nvSpPr>
          <p:spPr>
            <a:xfrm>
              <a:off x="133020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2692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900000" y="2422440"/>
            <a:ext cx="792000" cy="720720"/>
            <a:chOff x="900000" y="2422440"/>
            <a:chExt cx="792000" cy="720720"/>
          </a:xfrm>
        </p:grpSpPr>
        <p:sp>
          <p:nvSpPr>
            <p:cNvPr id="563" name=""/>
            <p:cNvSpPr/>
            <p:nvPr/>
          </p:nvSpPr>
          <p:spPr>
            <a:xfrm>
              <a:off x="900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00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332000" y="2422440"/>
            <a:ext cx="792000" cy="720720"/>
            <a:chOff x="1332000" y="2422440"/>
            <a:chExt cx="792000" cy="720720"/>
          </a:xfrm>
        </p:grpSpPr>
        <p:sp>
          <p:nvSpPr>
            <p:cNvPr id="566" name=""/>
            <p:cNvSpPr/>
            <p:nvPr/>
          </p:nvSpPr>
          <p:spPr>
            <a:xfrm>
              <a:off x="1332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32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050920" y="2349360"/>
            <a:ext cx="1008000" cy="863640"/>
            <a:chOff x="2050920" y="2349360"/>
            <a:chExt cx="1008000" cy="863640"/>
          </a:xfrm>
        </p:grpSpPr>
        <p:sp>
          <p:nvSpPr>
            <p:cNvPr id="569" name=""/>
            <p:cNvSpPr/>
            <p:nvPr/>
          </p:nvSpPr>
          <p:spPr>
            <a:xfrm>
              <a:off x="255420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5092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124000" y="2422440"/>
            <a:ext cx="792000" cy="720720"/>
            <a:chOff x="2124000" y="2422440"/>
            <a:chExt cx="792000" cy="720720"/>
          </a:xfrm>
        </p:grpSpPr>
        <p:sp>
          <p:nvSpPr>
            <p:cNvPr id="572" name=""/>
            <p:cNvSpPr/>
            <p:nvPr/>
          </p:nvSpPr>
          <p:spPr>
            <a:xfrm>
              <a:off x="2124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24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556000" y="2422440"/>
            <a:ext cx="792000" cy="720720"/>
            <a:chOff x="2556000" y="2422440"/>
            <a:chExt cx="792000" cy="720720"/>
          </a:xfrm>
        </p:grpSpPr>
        <p:sp>
          <p:nvSpPr>
            <p:cNvPr id="575" name=""/>
            <p:cNvSpPr/>
            <p:nvPr/>
          </p:nvSpPr>
          <p:spPr>
            <a:xfrm>
              <a:off x="2556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56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5580000" y="3500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5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1)(2x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435640" y="2349360"/>
            <a:ext cx="1008000" cy="863640"/>
            <a:chOff x="5435640" y="2349360"/>
            <a:chExt cx="1008000" cy="863640"/>
          </a:xfrm>
        </p:grpSpPr>
        <p:sp>
          <p:nvSpPr>
            <p:cNvPr id="579" name=""/>
            <p:cNvSpPr/>
            <p:nvPr/>
          </p:nvSpPr>
          <p:spPr>
            <a:xfrm>
              <a:off x="593892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3564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508720" y="2422440"/>
            <a:ext cx="792000" cy="720720"/>
            <a:chOff x="5508720" y="2422440"/>
            <a:chExt cx="792000" cy="720720"/>
          </a:xfrm>
        </p:grpSpPr>
        <p:sp>
          <p:nvSpPr>
            <p:cNvPr id="582" name=""/>
            <p:cNvSpPr/>
            <p:nvPr/>
          </p:nvSpPr>
          <p:spPr>
            <a:xfrm>
              <a:off x="550872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50872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940360" y="2422440"/>
            <a:ext cx="792000" cy="720720"/>
            <a:chOff x="5940360" y="2422440"/>
            <a:chExt cx="792000" cy="720720"/>
          </a:xfrm>
        </p:grpSpPr>
        <p:sp>
          <p:nvSpPr>
            <p:cNvPr id="585" name=""/>
            <p:cNvSpPr/>
            <p:nvPr/>
          </p:nvSpPr>
          <p:spPr>
            <a:xfrm>
              <a:off x="594036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94036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659640" y="2349360"/>
            <a:ext cx="1008000" cy="863640"/>
            <a:chOff x="6659640" y="2349360"/>
            <a:chExt cx="1008000" cy="863640"/>
          </a:xfrm>
        </p:grpSpPr>
        <p:sp>
          <p:nvSpPr>
            <p:cNvPr id="588" name=""/>
            <p:cNvSpPr/>
            <p:nvPr/>
          </p:nvSpPr>
          <p:spPr>
            <a:xfrm>
              <a:off x="716292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65964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732720" y="2422440"/>
            <a:ext cx="792000" cy="720720"/>
            <a:chOff x="6732720" y="2422440"/>
            <a:chExt cx="792000" cy="720720"/>
          </a:xfrm>
        </p:grpSpPr>
        <p:sp>
          <p:nvSpPr>
            <p:cNvPr id="591" name=""/>
            <p:cNvSpPr/>
            <p:nvPr/>
          </p:nvSpPr>
          <p:spPr>
            <a:xfrm>
              <a:off x="673272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3272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164360" y="2422440"/>
            <a:ext cx="792000" cy="720720"/>
            <a:chOff x="7164360" y="2422440"/>
            <a:chExt cx="792000" cy="720720"/>
          </a:xfrm>
        </p:grpSpPr>
        <p:sp>
          <p:nvSpPr>
            <p:cNvPr id="594" name=""/>
            <p:cNvSpPr/>
            <p:nvPr/>
          </p:nvSpPr>
          <p:spPr>
            <a:xfrm>
              <a:off x="716436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6436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1258920" y="6211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6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5)(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39640" y="5060880"/>
            <a:ext cx="1008000" cy="863640"/>
            <a:chOff x="539640" y="5060880"/>
            <a:chExt cx="1008000" cy="863640"/>
          </a:xfrm>
        </p:grpSpPr>
        <p:sp>
          <p:nvSpPr>
            <p:cNvPr id="598" name=""/>
            <p:cNvSpPr/>
            <p:nvPr/>
          </p:nvSpPr>
          <p:spPr>
            <a:xfrm>
              <a:off x="1042920" y="5060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9640" y="5492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12720" y="5133960"/>
            <a:ext cx="792000" cy="720720"/>
            <a:chOff x="612720" y="5133960"/>
            <a:chExt cx="792000" cy="720720"/>
          </a:xfrm>
        </p:grpSpPr>
        <p:sp>
          <p:nvSpPr>
            <p:cNvPr id="601" name=""/>
            <p:cNvSpPr/>
            <p:nvPr/>
          </p:nvSpPr>
          <p:spPr>
            <a:xfrm>
              <a:off x="61272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272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044720" y="5133960"/>
            <a:ext cx="792000" cy="720720"/>
            <a:chOff x="1044720" y="5133960"/>
            <a:chExt cx="792000" cy="720720"/>
          </a:xfrm>
        </p:grpSpPr>
        <p:sp>
          <p:nvSpPr>
            <p:cNvPr id="604" name=""/>
            <p:cNvSpPr/>
            <p:nvPr/>
          </p:nvSpPr>
          <p:spPr>
            <a:xfrm>
              <a:off x="104472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4472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1979640" y="5060880"/>
            <a:ext cx="1008000" cy="863640"/>
            <a:chOff x="1979640" y="5060880"/>
            <a:chExt cx="1008000" cy="863640"/>
          </a:xfrm>
        </p:grpSpPr>
        <p:sp>
          <p:nvSpPr>
            <p:cNvPr id="607" name=""/>
            <p:cNvSpPr/>
            <p:nvPr/>
          </p:nvSpPr>
          <p:spPr>
            <a:xfrm>
              <a:off x="2482920" y="5060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79640" y="5492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052720" y="5133960"/>
            <a:ext cx="792000" cy="720720"/>
            <a:chOff x="2052720" y="5133960"/>
            <a:chExt cx="792000" cy="720720"/>
          </a:xfrm>
        </p:grpSpPr>
        <p:sp>
          <p:nvSpPr>
            <p:cNvPr id="610" name=""/>
            <p:cNvSpPr/>
            <p:nvPr/>
          </p:nvSpPr>
          <p:spPr>
            <a:xfrm>
              <a:off x="205272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272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484360" y="5133960"/>
            <a:ext cx="792000" cy="720720"/>
            <a:chOff x="2484360" y="5133960"/>
            <a:chExt cx="792000" cy="720720"/>
          </a:xfrm>
        </p:grpSpPr>
        <p:sp>
          <p:nvSpPr>
            <p:cNvPr id="613" name=""/>
            <p:cNvSpPr/>
            <p:nvPr/>
          </p:nvSpPr>
          <p:spPr>
            <a:xfrm>
              <a:off x="248436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8436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5364000" y="616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y + 7)(y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788000" y="5013360"/>
            <a:ext cx="1008000" cy="863640"/>
            <a:chOff x="4788000" y="5013360"/>
            <a:chExt cx="1008000" cy="863640"/>
          </a:xfrm>
        </p:grpSpPr>
        <p:sp>
          <p:nvSpPr>
            <p:cNvPr id="617" name=""/>
            <p:cNvSpPr/>
            <p:nvPr/>
          </p:nvSpPr>
          <p:spPr>
            <a:xfrm>
              <a:off x="5291280" y="501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88000" y="54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861080" y="5086440"/>
            <a:ext cx="792000" cy="720720"/>
            <a:chOff x="4861080" y="5086440"/>
            <a:chExt cx="792000" cy="720720"/>
          </a:xfrm>
        </p:grpSpPr>
        <p:sp>
          <p:nvSpPr>
            <p:cNvPr id="620" name=""/>
            <p:cNvSpPr/>
            <p:nvPr/>
          </p:nvSpPr>
          <p:spPr>
            <a:xfrm>
              <a:off x="486108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86108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292720" y="5119560"/>
            <a:ext cx="792000" cy="720720"/>
            <a:chOff x="5292720" y="5119560"/>
            <a:chExt cx="792000" cy="720720"/>
          </a:xfrm>
        </p:grpSpPr>
        <p:sp>
          <p:nvSpPr>
            <p:cNvPr id="623" name=""/>
            <p:cNvSpPr/>
            <p:nvPr/>
          </p:nvSpPr>
          <p:spPr>
            <a:xfrm>
              <a:off x="5292720" y="51195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92720" y="5472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0" dur="indefinite" restart="never" nodeType="tmRoot">
          <p:childTnLst>
            <p:seq>
              <p:cTn id="2741" dur="indefinite" nodeType="mainSeq">
                <p:childTnLst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2" dur="8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3" dur="8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8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8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7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fill="hold">
                      <p:stCondLst>
                        <p:cond delay="indefinite"/>
                      </p:stCondLst>
                      <p:childTnLst>
                        <p:par>
                          <p:cTn id="2884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8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8" fill="hold">
                      <p:stCondLst>
                        <p:cond delay="indefinite"/>
                      </p:stCondLst>
                      <p:childTnLst>
                        <p:par>
                          <p:cTn id="2889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fill="hold">
                      <p:stCondLst>
                        <p:cond delay="indefinite"/>
                      </p:stCondLst>
                      <p:childTnLst>
                        <p:par>
                          <p:cTn id="2925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fill="hold">
                      <p:stCondLst>
                        <p:cond delay="indefinite"/>
                      </p:stCondLst>
                      <p:childTnLst>
                        <p:par>
                          <p:cTn id="2943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0" fill="hold">
                      <p:stCondLst>
                        <p:cond delay="indefinite"/>
                      </p:stCondLst>
                      <p:childTnLst>
                        <p:par>
                          <p:cTn id="2961" fill="hold">
                            <p:stCondLst>
                              <p:cond delay="0"/>
                            </p:stCondLst>
                            <p:childTnLst>
                              <p:par>
                                <p:cTn id="2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fill="hold">
                      <p:stCondLst>
                        <p:cond delay="indefinite"/>
                      </p:stCondLst>
                      <p:childTnLst>
                        <p:par>
                          <p:cTn id="2997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2" fill="hold">
                      <p:stCondLst>
                        <p:cond delay="indefinite"/>
                      </p:stCondLst>
                      <p:childTnLst>
                        <p:par>
                          <p:cTn id="3003" fill="hold">
                            <p:stCondLst>
                              <p:cond delay="0"/>
                            </p:stCondLst>
                            <p:childTnLst>
                              <p:par>
                                <p:cTn id="30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fill="hold">
                      <p:stCondLst>
                        <p:cond delay="indefinite"/>
                      </p:stCondLst>
                      <p:childTnLst>
                        <p:par>
                          <p:cTn id="3116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fill="hold">
                      <p:stCondLst>
                        <p:cond delay="indefinite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1" fill="hold">
                      <p:stCondLst>
                        <p:cond delay="indefinite"/>
                      </p:stCondLst>
                      <p:childTnLst>
                        <p:par>
                          <p:cTn id="3152" fill="hold">
                            <p:stCondLst>
                              <p:cond delay="0"/>
                            </p:stCondLst>
                            <p:childTnLst>
                              <p:par>
                                <p:cTn id="3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In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negative multip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.g. 1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.g.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0880" y="2590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x + x &gt; 13 +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0880" y="33526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5x &gt;  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0880" y="4006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gt;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80880" y="18288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4x - 2 &gt; 13 -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800600" y="1828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2x - 3    </a:t>
            </a:r>
            <a:r>
              <a:rPr b="0" lang="en-GB" sz="36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 6x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2590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2x - 6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25 +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876920" y="33526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4x 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952880" y="4038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8018640" y="0"/>
            <a:ext cx="111888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8" dur="indefinite" restart="never" nodeType="tmRoot">
          <p:childTnLst>
            <p:seq>
              <p:cTn id="3179" dur="indefinite" nodeType="mainSeq">
                <p:childTnLst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fill="hold">
                      <p:stCondLst>
                        <p:cond delay="indefinite"/>
                      </p:stCondLst>
                      <p:childTnLst>
                        <p:par>
                          <p:cTn id="3189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4" fill="hold">
                      <p:stCondLst>
                        <p:cond delay="indefinite"/>
                      </p:stCondLst>
                      <p:childTnLst>
                        <p:par>
                          <p:cTn id="3205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2" fill="hold">
                      <p:stCondLst>
                        <p:cond delay="indefinite"/>
                      </p:stCondLst>
                      <p:childTnLst>
                        <p:par>
                          <p:cTn id="3213" fill="hold">
                            <p:stCondLst>
                              <p:cond delay="0"/>
                            </p:stCondLst>
                            <p:childTnLst>
                              <p:par>
                                <p:cTn id="321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8" fill="hold">
                      <p:stCondLst>
                        <p:cond delay="indefinite"/>
                      </p:stCondLst>
                      <p:childTnLst>
                        <p:par>
                          <p:cTn id="3229" fill="hold">
                            <p:stCondLst>
                              <p:cond delay="0"/>
                            </p:stCondLst>
                            <p:childTnLst>
                              <p:par>
                                <p:cTn id="323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fill="hold">
                      <p:stCondLst>
                        <p:cond delay="indefinite"/>
                      </p:stCondLst>
                      <p:childTnLst>
                        <p:par>
                          <p:cTn id="3237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1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0880" y="2590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5x - 3x &lt;        10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80880" y="33526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2x &lt;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80880" y="4006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lt;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80880" y="18288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5x + 2 &lt; 3x +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00600" y="1828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7x - 1    </a:t>
            </a:r>
            <a:r>
              <a:rPr b="0" lang="en-GB" sz="3600" spc="-1" strike="noStrike">
                <a:solidFill>
                  <a:srgbClr val="333399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 4x +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876920" y="2590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7x - 4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20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3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4038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8018640" y="0"/>
            <a:ext cx="111888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4" dur="indefinite" restart="never" nodeType="tmRoot">
          <p:childTnLst>
            <p:seq>
              <p:cTn id="3245" dur="indefinite" nodeType="mainSeq">
                <p:childTnLst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4" fill="hold">
                      <p:stCondLst>
                        <p:cond delay="indefinite"/>
                      </p:stCondLst>
                      <p:childTnLst>
                        <p:par>
                          <p:cTn id="3255" fill="hold">
                            <p:stCondLst>
                              <p:cond delay="0"/>
                            </p:stCondLst>
                            <p:childTnLst>
                              <p:par>
                                <p:cTn id="325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0" fill="hold">
                      <p:stCondLst>
                        <p:cond delay="indefinite"/>
                      </p:stCondLst>
                      <p:childTnLst>
                        <p:par>
                          <p:cTn id="3271" fill="hold">
                            <p:stCondLst>
                              <p:cond delay="0"/>
                            </p:stCondLst>
                            <p:childTnLst>
                              <p:par>
                                <p:cTn id="327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fill="hold">
                      <p:stCondLst>
                        <p:cond delay="indefinite"/>
                      </p:stCondLst>
                      <p:childTnLst>
                        <p:par>
                          <p:cTn id="3279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4" fill="hold">
                      <p:stCondLst>
                        <p:cond delay="indefinite"/>
                      </p:stCondLst>
                      <p:childTnLst>
                        <p:par>
                          <p:cTn id="3295" fill="hold">
                            <p:stCondLst>
                              <p:cond delay="0"/>
                            </p:stCondLst>
                            <p:childTnLst>
                              <p:par>
                                <p:cTn id="329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2" fill="hold">
                      <p:stCondLst>
                        <p:cond delay="indefinite"/>
                      </p:stCondLst>
                      <p:childTnLst>
                        <p:par>
                          <p:cTn id="3303" fill="hold">
                            <p:stCondLst>
                              <p:cond delay="0"/>
                            </p:stCondLst>
                            <p:childTnLst>
                              <p:par>
                                <p:cTn id="330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80880" y="2590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5x + 20  &gt; 3x +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80880" y="33526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5x - 3x &gt;    6 -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80880" y="4006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2x &gt;  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80880" y="4540320"/>
            <a:ext cx="3810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gt; 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0880" y="18288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5(x + 4) &gt; 3(x +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0880" y="50734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gt;  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00600" y="1828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3(x - 5) &lt; -4(1 - 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76920" y="25909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3x - 15  &lt; -4 + 4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029200" y="33526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3x - 4x &lt;  -4 + 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4038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x &lt; 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4616280"/>
            <a:ext cx="38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gt; 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105520" y="5302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gt;  -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8018640" y="0"/>
            <a:ext cx="111888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8" fill="hold">
                      <p:stCondLst>
                        <p:cond delay="indefinite"/>
                      </p:stCondLst>
                      <p:childTnLst>
                        <p:par>
                          <p:cTn id="3329" fill="hold">
                            <p:stCondLst>
                              <p:cond delay="0"/>
                            </p:stCondLst>
                            <p:childTnLst>
                              <p:par>
                                <p:cTn id="333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fill="hold">
                      <p:stCondLst>
                        <p:cond delay="indefinite"/>
                      </p:stCondLst>
                      <p:childTnLst>
                        <p:par>
                          <p:cTn id="3345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fill="hold">
                      <p:stCondLst>
                        <p:cond delay="indefinite"/>
                      </p:stCondLst>
                      <p:childTnLst>
                        <p:par>
                          <p:cTn id="3377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fill="hold">
                      <p:stCondLst>
                        <p:cond delay="indefinite"/>
                      </p:stCondLst>
                      <p:childTnLst>
                        <p:par>
                          <p:cTn id="3385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fill="hold">
                      <p:stCondLst>
                        <p:cond delay="indefinite"/>
                      </p:stCondLst>
                      <p:childTnLst>
                        <p:par>
                          <p:cTn id="3401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0880" y="2590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9x - 4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3x + 6 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80880" y="38862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9x - 3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10 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0880" y="4540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6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0880" y="5149800"/>
            <a:ext cx="3810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18288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9x - 4 </a:t>
            </a:r>
            <a:r>
              <a:rPr b="0" lang="en-GB" sz="3600" spc="-1" strike="noStrike">
                <a:solidFill>
                  <a:srgbClr val="333399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3(x + 2) 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80880" y="5759280"/>
            <a:ext cx="3810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800600" y="1828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3(2 - 5x) &gt; -13 - 7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876920" y="25909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6 - 15x  &gt; -13 - 7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724280" y="33526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15x + 7x &gt;  -13 -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4038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8x &gt;  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105520" y="4616280"/>
            <a:ext cx="38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lt; 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0880" y="32446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9x - 4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3x +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105520" y="5378400"/>
            <a:ext cx="38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lt;  -2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8024760" y="0"/>
            <a:ext cx="111924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8" dur="indefinite" restart="never" nodeType="tmRoot">
          <p:childTnLst>
            <p:seq>
              <p:cTn id="3409" dur="indefinite" nodeType="mainSeq">
                <p:childTnLst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8" fill="hold">
                      <p:stCondLst>
                        <p:cond delay="indefinite"/>
                      </p:stCondLst>
                      <p:childTnLst>
                        <p:par>
                          <p:cTn id="3419" fill="hold">
                            <p:stCondLst>
                              <p:cond delay="0"/>
                            </p:stCondLst>
                            <p:childTnLst>
                              <p:par>
                                <p:cTn id="342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6" fill="hold">
                      <p:stCondLst>
                        <p:cond delay="indefinite"/>
                      </p:stCondLst>
                      <p:childTnLst>
                        <p:par>
                          <p:cTn id="3427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fill="hold">
                      <p:stCondLst>
                        <p:cond delay="indefinite"/>
                      </p:stCondLst>
                      <p:childTnLst>
                        <p:par>
                          <p:cTn id="3435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2" fill="hold">
                      <p:stCondLst>
                        <p:cond delay="indefinite"/>
                      </p:stCondLst>
                      <p:childTnLst>
                        <p:par>
                          <p:cTn id="3443" fill="hold">
                            <p:stCondLst>
                              <p:cond delay="0"/>
                            </p:stCondLst>
                            <p:childTnLst>
                              <p:par>
                                <p:cTn id="344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0" fill="hold">
                      <p:stCondLst>
                        <p:cond delay="indefinite"/>
                      </p:stCondLst>
                      <p:childTnLst>
                        <p:par>
                          <p:cTn id="3451" fill="hold">
                            <p:stCondLst>
                              <p:cond delay="0"/>
                            </p:stCondLst>
                            <p:childTnLst>
                              <p:par>
                                <p:cTn id="345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6" fill="hold">
                      <p:stCondLst>
                        <p:cond delay="indefinite"/>
                      </p:stCondLst>
                      <p:childTnLst>
                        <p:par>
                          <p:cTn id="3467" fill="hold">
                            <p:stCondLst>
                              <p:cond delay="0"/>
                            </p:stCondLst>
                            <p:childTnLst>
                              <p:par>
                                <p:cTn id="346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0" fill="hold">
                      <p:stCondLst>
                        <p:cond delay="indefinite"/>
                      </p:stCondLst>
                      <p:childTnLst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6" fill="hold">
                      <p:stCondLst>
                        <p:cond delay="indefinite"/>
                      </p:stCondLst>
                      <p:childTnLst>
                        <p:par>
                          <p:cTn id="3507" fill="hold">
                            <p:stCondLst>
                              <p:cond delay="0"/>
                            </p:stCondLst>
                            <p:childTnLst>
                              <p:par>
                                <p:cTn id="350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7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32767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5x - 10  = -3x -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80880" y="40384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5x + 3x =  -12 +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4692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8x = 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0880" y="5226120"/>
            <a:ext cx="3810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= 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80880" y="25146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5(x - 2) = -3(x +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80880" y="5759280"/>
            <a:ext cx="3810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= 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800600" y="2514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3(x + 4) &lt; -4(5 - 2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876920" y="32767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3x +12  &lt; -20 + 8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029200" y="4038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3x - 8x &lt;  -20 -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952880" y="4724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5x &lt;  -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05520" y="5302080"/>
            <a:ext cx="38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gt; 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-32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105520" y="5911920"/>
            <a:ext cx="38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gt;  6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7939080" y="0"/>
            <a:ext cx="120492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4" dur="indefinite" restart="never" nodeType="tmRoot">
          <p:childTnLst>
            <p:seq>
              <p:cTn id="3515" dur="indefinite" nodeType="mainSeq">
                <p:childTnLst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fill="hold">
                      <p:stCondLst>
                        <p:cond delay="indefinite"/>
                      </p:stCondLst>
                      <p:childTnLst>
                        <p:par>
                          <p:cTn id="3525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0" fill="hold">
                      <p:stCondLst>
                        <p:cond delay="indefinite"/>
                      </p:stCondLst>
                      <p:childTnLst>
                        <p:par>
                          <p:cTn id="3541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8" fill="hold">
                      <p:stCondLst>
                        <p:cond delay="indefinite"/>
                      </p:stCondLst>
                      <p:childTnLst>
                        <p:par>
                          <p:cTn id="3549" fill="hold">
                            <p:stCondLst>
                              <p:cond delay="0"/>
                            </p:stCondLst>
                            <p:childTnLst>
                              <p:par>
                                <p:cTn id="355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4" fill="hold">
                      <p:stCondLst>
                        <p:cond delay="indefinite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fill="hold">
                      <p:stCondLst>
                        <p:cond delay="indefinite"/>
                      </p:stCondLst>
                      <p:childTnLst>
                        <p:par>
                          <p:cTn id="3573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fill="hold">
                      <p:stCondLst>
                        <p:cond delay="indefinite"/>
                      </p:stCondLst>
                      <p:childTnLst>
                        <p:par>
                          <p:cTn id="3589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fill="hold">
                      <p:stCondLst>
                        <p:cond delay="indefinite"/>
                      </p:stCondLst>
                      <p:childTnLst>
                        <p:par>
                          <p:cTn id="3597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fill="hold">
                      <p:stCondLst>
                        <p:cond delay="indefinite"/>
                      </p:stCondLst>
                      <p:childTnLst>
                        <p:par>
                          <p:cTn id="3605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5840" y="0"/>
            <a:ext cx="736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E.g. Find the length of  each missing side. (to 1 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4920" y="800280"/>
            <a:ext cx="2286000" cy="2989800"/>
            <a:chOff x="304920" y="800280"/>
            <a:chExt cx="2286000" cy="2989800"/>
          </a:xfrm>
        </p:grpSpPr>
        <p:sp>
          <p:nvSpPr>
            <p:cNvPr id="47" name=""/>
            <p:cNvSpPr/>
            <p:nvPr/>
          </p:nvSpPr>
          <p:spPr>
            <a:xfrm>
              <a:off x="990720" y="800280"/>
              <a:ext cx="1600200" cy="2209680"/>
            </a:xfrm>
            <a:prstGeom prst="rtTriangl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17910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5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47920" y="308628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3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16383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0720" y="2781360"/>
              <a:ext cx="2286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496200" y="685800"/>
            <a:ext cx="2209680" cy="2571840"/>
            <a:chOff x="6496200" y="685800"/>
            <a:chExt cx="2209680" cy="2571840"/>
          </a:xfrm>
        </p:grpSpPr>
        <p:sp>
          <p:nvSpPr>
            <p:cNvPr id="53" name=""/>
            <p:cNvSpPr/>
            <p:nvPr/>
          </p:nvSpPr>
          <p:spPr>
            <a:xfrm rot="10800000">
              <a:off x="6553080" y="1047960"/>
              <a:ext cx="1523880" cy="2209680"/>
            </a:xfrm>
            <a:prstGeom prst="rtTriangl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20080" y="17910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96200" y="184788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0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62920" y="6858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7848360" y="1047600"/>
              <a:ext cx="2286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" y="3879720"/>
            <a:ext cx="1839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=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+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5800" y="4354560"/>
            <a:ext cx="245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0960"/>
                <a:tab algn="l" pos="1241280"/>
                <a:tab algn="l" pos="1905120"/>
                <a:tab algn="l" pos="2395440"/>
                <a:tab algn="l" pos="3146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= 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36600" y="48639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1360" y="4863960"/>
            <a:ext cx="3071520" cy="459720"/>
            <a:chOff x="441360" y="4863960"/>
            <a:chExt cx="3071520" cy="459720"/>
          </a:xfrm>
        </p:grpSpPr>
        <p:sp>
          <p:nvSpPr>
            <p:cNvPr id="62" name=""/>
            <p:cNvSpPr/>
            <p:nvPr/>
          </p:nvSpPr>
          <p:spPr>
            <a:xfrm>
              <a:off x="441360" y="4863960"/>
              <a:ext cx="30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a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34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76200" y="4933800"/>
              <a:ext cx="5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541200" y="3689280"/>
            <a:ext cx="191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-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23200" y="4164120"/>
            <a:ext cx="2457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0960"/>
                <a:tab algn="l" pos="1241280"/>
                <a:tab algn="l" pos="1905120"/>
                <a:tab algn="l" pos="2395440"/>
                <a:tab algn="l" pos="3146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44000" y="46735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548400" y="4673520"/>
            <a:ext cx="3071520" cy="459720"/>
            <a:chOff x="6548400" y="4673520"/>
            <a:chExt cx="3071520" cy="459720"/>
          </a:xfrm>
        </p:grpSpPr>
        <p:sp>
          <p:nvSpPr>
            <p:cNvPr id="68" name=""/>
            <p:cNvSpPr/>
            <p:nvPr/>
          </p:nvSpPr>
          <p:spPr>
            <a:xfrm>
              <a:off x="6548400" y="4673520"/>
              <a:ext cx="30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36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83240" y="4743360"/>
              <a:ext cx="5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520" y="0"/>
            <a:ext cx="717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Ex Find the length of  each missing side. (to 1 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11280" y="1151640"/>
            <a:ext cx="2804760" cy="2490480"/>
            <a:chOff x="611280" y="1151640"/>
            <a:chExt cx="2804760" cy="2490480"/>
          </a:xfrm>
        </p:grpSpPr>
        <p:sp>
          <p:nvSpPr>
            <p:cNvPr id="72" name=""/>
            <p:cNvSpPr/>
            <p:nvPr/>
          </p:nvSpPr>
          <p:spPr>
            <a:xfrm rot="7200000">
              <a:off x="1258920" y="1292040"/>
              <a:ext cx="1600200" cy="2209680"/>
            </a:xfrm>
            <a:prstGeom prst="rtTriangle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1280" y="1444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4120" y="1387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2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16120" y="2359080"/>
              <a:ext cx="104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8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7200000">
              <a:off x="1429920" y="1196640"/>
              <a:ext cx="2286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496200" y="685800"/>
            <a:ext cx="2209680" cy="2571840"/>
            <a:chOff x="6496200" y="685800"/>
            <a:chExt cx="2209680" cy="2571840"/>
          </a:xfrm>
        </p:grpSpPr>
        <p:sp>
          <p:nvSpPr>
            <p:cNvPr id="78" name=""/>
            <p:cNvSpPr/>
            <p:nvPr/>
          </p:nvSpPr>
          <p:spPr>
            <a:xfrm rot="10800000">
              <a:off x="6553080" y="1047960"/>
              <a:ext cx="1523880" cy="2209680"/>
            </a:xfrm>
            <a:prstGeom prst="rtTriangl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20080" y="17910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96200" y="184788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62920" y="6858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4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7848360" y="1047600"/>
              <a:ext cx="2286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06320" y="3705120"/>
            <a:ext cx="210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=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-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3440" y="4179960"/>
            <a:ext cx="245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0960"/>
                <a:tab algn="l" pos="1241280"/>
                <a:tab algn="l" pos="1905120"/>
                <a:tab algn="l" pos="2395440"/>
                <a:tab algn="l" pos="3146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24240" y="468936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28640" y="4689360"/>
            <a:ext cx="3071520" cy="459720"/>
            <a:chOff x="728640" y="4689360"/>
            <a:chExt cx="3071520" cy="459720"/>
          </a:xfrm>
        </p:grpSpPr>
        <p:sp>
          <p:nvSpPr>
            <p:cNvPr id="87" name=""/>
            <p:cNvSpPr/>
            <p:nvPr/>
          </p:nvSpPr>
          <p:spPr>
            <a:xfrm>
              <a:off x="728640" y="4689360"/>
              <a:ext cx="30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180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63480" y="4759200"/>
              <a:ext cx="5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527520" y="3689280"/>
            <a:ext cx="182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=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+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23200" y="4164120"/>
            <a:ext cx="2457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0960"/>
                <a:tab algn="l" pos="1241280"/>
                <a:tab algn="l" pos="1905120"/>
                <a:tab algn="l" pos="2395440"/>
                <a:tab algn="l" pos="3146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=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44000" y="46735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548400" y="4673520"/>
            <a:ext cx="3071520" cy="459720"/>
            <a:chOff x="6548400" y="4673520"/>
            <a:chExt cx="3071520" cy="459720"/>
          </a:xfrm>
        </p:grpSpPr>
        <p:sp>
          <p:nvSpPr>
            <p:cNvPr id="93" name=""/>
            <p:cNvSpPr/>
            <p:nvPr/>
          </p:nvSpPr>
          <p:spPr>
            <a:xfrm>
              <a:off x="6548400" y="4673520"/>
              <a:ext cx="30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y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52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83240" y="4743360"/>
              <a:ext cx="5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the missing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3505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H CAH 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20560" y="4038480"/>
                <a:ext cx="1629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98320" y="4890960"/>
                <a:ext cx="14702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" y="5715000"/>
                <a:ext cx="1806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17560" y="6253200"/>
                <a:ext cx="11844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2" name=""/>
          <p:cNvGrpSpPr/>
          <p:nvPr/>
        </p:nvGrpSpPr>
        <p:grpSpPr>
          <a:xfrm>
            <a:off x="802080" y="887760"/>
            <a:ext cx="3084120" cy="2878560"/>
            <a:chOff x="802080" y="887760"/>
            <a:chExt cx="3084120" cy="2878560"/>
          </a:xfrm>
        </p:grpSpPr>
        <p:grpSp>
          <p:nvGrpSpPr>
            <p:cNvPr id="103" name=""/>
            <p:cNvGrpSpPr/>
            <p:nvPr/>
          </p:nvGrpSpPr>
          <p:grpSpPr>
            <a:xfrm>
              <a:off x="802080" y="887760"/>
              <a:ext cx="2651760" cy="2878560"/>
              <a:chOff x="802080" y="887760"/>
              <a:chExt cx="2651760" cy="2878560"/>
            </a:xfrm>
          </p:grpSpPr>
          <p:sp>
            <p:nvSpPr>
              <p:cNvPr id="104" name=""/>
              <p:cNvSpPr/>
              <p:nvPr/>
            </p:nvSpPr>
            <p:spPr>
              <a:xfrm flipV="1" rot="1893600">
                <a:off x="1295280" y="1149120"/>
                <a:ext cx="1665000" cy="2355480"/>
              </a:xfrm>
              <a:prstGeom prst="rtTriangle">
                <a:avLst/>
              </a:prstGeom>
              <a:solidFill>
                <a:srgbClr val="66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 rot="1893600">
                <a:off x="1940040" y="939240"/>
                <a:ext cx="277200" cy="282600"/>
              </a:xfrm>
              <a:prstGeom prst="rect">
                <a:avLst/>
              </a:prstGeom>
              <a:solidFill>
                <a:srgbClr val="66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143000" y="219384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5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25840" y="914400"/>
              <a:ext cx="12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4400" y="1218960"/>
              <a:ext cx="12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4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828800" y="3886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3796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3796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838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2666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1066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676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3505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H CAH 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886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473800" y="4038480"/>
                <a:ext cx="16254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502240" y="4876920"/>
                <a:ext cx="14652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91000" y="5683320"/>
                <a:ext cx="29163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029200" y="33526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952880" y="912600"/>
            <a:ext cx="3203640" cy="1832040"/>
            <a:chOff x="4952880" y="912600"/>
            <a:chExt cx="3203640" cy="1832040"/>
          </a:xfrm>
        </p:grpSpPr>
        <p:sp>
          <p:nvSpPr>
            <p:cNvPr id="124" name=""/>
            <p:cNvSpPr/>
            <p:nvPr/>
          </p:nvSpPr>
          <p:spPr>
            <a:xfrm>
              <a:off x="4952880" y="1447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254560" y="912600"/>
              <a:ext cx="2901960" cy="1832040"/>
              <a:chOff x="5254560" y="912600"/>
              <a:chExt cx="2901960" cy="1832040"/>
            </a:xfrm>
          </p:grpSpPr>
          <p:sp>
            <p:nvSpPr>
              <p:cNvPr id="126" name=""/>
              <p:cNvSpPr/>
              <p:nvPr/>
            </p:nvSpPr>
            <p:spPr>
              <a:xfrm rot="400200">
                <a:off x="5334120" y="1066680"/>
                <a:ext cx="2743200" cy="1523880"/>
              </a:xfrm>
              <a:prstGeom prst="rtTriangle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rot="400200">
                <a:off x="5270760" y="2139840"/>
                <a:ext cx="304920" cy="30456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H="1">
              <a:off x="5257080" y="11430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y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53080" y="1371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257800" y="33526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blem 1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2514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H CAH 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3404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931000" y="3048120"/>
                <a:ext cx="16254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959440" y="3886200"/>
                <a:ext cx="14637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861160" y="4692600"/>
                <a:ext cx="28908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486400" y="2362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066680" y="1905120"/>
            <a:ext cx="2996640" cy="3741120"/>
            <a:chOff x="1066680" y="1905120"/>
            <a:chExt cx="2996640" cy="3741120"/>
          </a:xfrm>
        </p:grpSpPr>
        <p:grpSp>
          <p:nvGrpSpPr>
            <p:cNvPr id="142" name=""/>
            <p:cNvGrpSpPr/>
            <p:nvPr/>
          </p:nvGrpSpPr>
          <p:grpSpPr>
            <a:xfrm>
              <a:off x="1117440" y="1973880"/>
              <a:ext cx="2945880" cy="3672360"/>
              <a:chOff x="1117440" y="1973880"/>
              <a:chExt cx="2945880" cy="3672360"/>
            </a:xfrm>
          </p:grpSpPr>
          <p:sp>
            <p:nvSpPr>
              <p:cNvPr id="143" name=""/>
              <p:cNvSpPr/>
              <p:nvPr/>
            </p:nvSpPr>
            <p:spPr>
              <a:xfrm rot="3679200">
                <a:off x="914040" y="3048120"/>
                <a:ext cx="3352320" cy="1523880"/>
              </a:xfrm>
              <a:prstGeom prst="rtTriangl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rot="3678600">
                <a:off x="1153440" y="2642400"/>
                <a:ext cx="372600" cy="3045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066680" y="3962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93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056680" y="42670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1905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0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697360" y="2362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blem 2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637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438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H CAH 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02400" y="2971800"/>
                <a:ext cx="16254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715000" y="3809880"/>
                <a:ext cx="14968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692680" y="4656240"/>
                <a:ext cx="1832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148440" y="6043680"/>
                <a:ext cx="11602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5257800" y="22860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6680" y="1464840"/>
            <a:ext cx="3597480" cy="3046320"/>
            <a:chOff x="796680" y="1464840"/>
            <a:chExt cx="3597480" cy="3046320"/>
          </a:xfrm>
        </p:grpSpPr>
        <p:grpSp>
          <p:nvGrpSpPr>
            <p:cNvPr id="159" name=""/>
            <p:cNvGrpSpPr/>
            <p:nvPr/>
          </p:nvGrpSpPr>
          <p:grpSpPr>
            <a:xfrm>
              <a:off x="796680" y="1464840"/>
              <a:ext cx="3597480" cy="2965680"/>
              <a:chOff x="796680" y="1464840"/>
              <a:chExt cx="3597480" cy="2965680"/>
            </a:xfrm>
          </p:grpSpPr>
          <p:sp>
            <p:nvSpPr>
              <p:cNvPr id="160" name=""/>
              <p:cNvSpPr/>
              <p:nvPr/>
            </p:nvSpPr>
            <p:spPr>
              <a:xfrm rot="655200">
                <a:off x="995400" y="1746000"/>
                <a:ext cx="3200040" cy="2403000"/>
              </a:xfrm>
              <a:prstGeom prst="rtTriangle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655200">
                <a:off x="838440" y="3382200"/>
                <a:ext cx="355680" cy="4802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506600" y="4051440"/>
              <a:ext cx="90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7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991600" y="3824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7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38280" y="2135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486400" y="22860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4468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021360" y="5038560"/>
                <a:ext cx="15238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11280" y="2349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blem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62828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ip A leaves the harbour and sails North at 15km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ip B leaves the harbour and sails East at 30km/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3 hours how far apart are the two shi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8680" y="3213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08680" y="39290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4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9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08680" y="4584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2025 + 8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08680" y="53006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0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08680" y="59864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125 = 100.6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547640" y="4340160"/>
            <a:ext cx="3456000" cy="1899720"/>
            <a:chOff x="1547640" y="4340160"/>
            <a:chExt cx="3456000" cy="1899720"/>
          </a:xfrm>
        </p:grpSpPr>
        <p:sp>
          <p:nvSpPr>
            <p:cNvPr id="177" name=""/>
            <p:cNvSpPr/>
            <p:nvPr/>
          </p:nvSpPr>
          <p:spPr>
            <a:xfrm>
              <a:off x="1547640" y="5732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1979640" y="4653000"/>
              <a:ext cx="144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47640" y="43401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79640" y="587700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27640" y="57801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79640" y="4653000"/>
              <a:ext cx="237636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79640" y="5734080"/>
              <a:ext cx="14436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189080" y="511956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5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3440" y="591192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90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46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blem 4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the Perime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84000" y="1618920"/>
            <a:ext cx="4535280" cy="2411640"/>
            <a:chOff x="684000" y="1618920"/>
            <a:chExt cx="4535280" cy="2411640"/>
          </a:xfrm>
        </p:grpSpPr>
        <p:sp>
          <p:nvSpPr>
            <p:cNvPr id="188" name=""/>
            <p:cNvSpPr/>
            <p:nvPr/>
          </p:nvSpPr>
          <p:spPr>
            <a:xfrm rot="16200000">
              <a:off x="90360" y="2212920"/>
              <a:ext cx="2411280" cy="122364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rot="5400000">
              <a:off x="2357640" y="1168920"/>
              <a:ext cx="2411280" cy="331128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908000" y="2842920"/>
              <a:ext cx="33112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684000" y="2842920"/>
              <a:ext cx="12236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84360" y="1619280"/>
              <a:ext cx="122364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08000" y="1619280"/>
              <a:ext cx="331128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908000" y="1618920"/>
              <a:ext cx="0" cy="237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4360" y="2843280"/>
              <a:ext cx="44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84320" y="2629080"/>
              <a:ext cx="5760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2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56000" y="2616120"/>
              <a:ext cx="215280" cy="432000"/>
            </a:xfrm>
            <a:custGeom>
              <a:avLst/>
              <a:gdLst/>
              <a:ahLst/>
              <a:rect l="l" t="t" r="r" b="b"/>
              <a:pathLst>
                <a:path w="136" h="272">
                  <a:moveTo>
                    <a:pt x="136" y="272"/>
                  </a:moveTo>
                  <a:cubicBezTo>
                    <a:pt x="68" y="226"/>
                    <a:pt x="0" y="181"/>
                    <a:pt x="0" y="136"/>
                  </a:cubicBezTo>
                  <a:cubicBezTo>
                    <a:pt x="0" y="91"/>
                    <a:pt x="68" y="45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08000" y="2625840"/>
              <a:ext cx="79164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6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01320" y="2849760"/>
              <a:ext cx="541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6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060720" y="1557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8720" y="1773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8000" y="2158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o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1725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hy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6360" y="2830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ad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61040" y="142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H CAH 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23160" y="1801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541920" y="1954080"/>
                <a:ext cx="1598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567480" y="2792520"/>
                <a:ext cx="14446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545160" y="3638520"/>
                <a:ext cx="17812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846840" y="5025960"/>
                <a:ext cx="14176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6084720" y="1268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13320" y="12682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791400" y="4089240"/>
                <a:ext cx="13906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3276720" y="3860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8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4292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47959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5445000"/>
            <a:ext cx="468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P = 22.3 + 22.3 + 10 +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P = 64.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2:02:07Z</dcterms:created>
  <dc:creator/>
  <dc:description/>
  <dc:language>en-US</dc:language>
  <cp:lastModifiedBy/>
  <dcterms:modified xsi:type="dcterms:W3CDTF">2007-02-15T12:02:24Z</dcterms:modified>
  <cp:revision>1</cp:revision>
  <dc:subject/>
  <dc:title>Credit Revision</dc:title>
</cp:coreProperties>
</file>